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gif" ContentType="image/gif"/>
  <Override PartName="/ppt/media/image6.jpeg" ContentType="image/jpeg"/>
  <Override PartName="/ppt/media/image8.png" ContentType="image/png"/>
  <Override PartName="/ppt/media/image11.jpeg" ContentType="image/jpeg"/>
  <Override PartName="/ppt/media/image5.jpeg" ContentType="image/jpeg"/>
  <Override PartName="/ppt/media/image10.jpeg" ContentType="image/jpeg"/>
  <Override PartName="/ppt/media/image7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9E44-5696-46F6-97E3-D82C7B00D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4BE0-8442-4812-88A4-630892887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3AEA-D8D8-47A0-9E62-89B863D99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4B50-796B-4392-BE23-9B354BEB8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E3FE-6DD3-4C58-A429-94F1FBE84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5EBC-46A4-4D2B-B5CE-4BBD37376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BFE7-1A4F-47C5-B2E5-732867371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72C-48E0-4DE4-AE7D-73EB0F31D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A98C-848A-4240-AB4B-F5C09B866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C257-64B2-4EE2-BFA6-3A67CDB63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39B-5EAB-4032-AA9E-B3E83972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095-1FE6-4212-84A1-8D01132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75B2-6CE7-4DA1-AAC0-10CEDD9304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gif"/><Relationship Id="rId2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image" Target="../media/image3.png"/><Relationship Id="rId15" Type="http://schemas.openxmlformats.org/officeDocument/2006/relationships/image" Target="../media/image3.png"/><Relationship Id="rId16" Type="http://schemas.openxmlformats.org/officeDocument/2006/relationships/image" Target="../media/image3.png"/><Relationship Id="rId17" Type="http://schemas.openxmlformats.org/officeDocument/2006/relationships/image" Target="../media/image3.png"/><Relationship Id="rId18" Type="http://schemas.openxmlformats.org/officeDocument/2006/relationships/image" Target="../media/image3.png"/><Relationship Id="rId19" Type="http://schemas.openxmlformats.org/officeDocument/2006/relationships/image" Target="../media/image3.png"/><Relationship Id="rId20" Type="http://schemas.openxmlformats.org/officeDocument/2006/relationships/image" Target="../media/image3.png"/><Relationship Id="rId21" Type="http://schemas.openxmlformats.org/officeDocument/2006/relationships/image" Target="../media/image3.png"/><Relationship Id="rId22" Type="http://schemas.openxmlformats.org/officeDocument/2006/relationships/image" Target="../media/image3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3.png"/><Relationship Id="rId26" Type="http://schemas.openxmlformats.org/officeDocument/2006/relationships/image" Target="../media/image3.png"/><Relationship Id="rId27" Type="http://schemas.openxmlformats.org/officeDocument/2006/relationships/image" Target="../media/image3.png"/><Relationship Id="rId28" Type="http://schemas.openxmlformats.org/officeDocument/2006/relationships/image" Target="../media/image4.gif"/><Relationship Id="rId2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0920" y="47628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00"/>
                </a:solidFill>
                <a:latin typeface="Arial"/>
              </a:rPr>
              <a:t>人教版语文  三年级上册  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258920" y="1557360"/>
            <a:ext cx="7200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只胸脯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粉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，一只胸脯是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深红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的。它们在树枝间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来回跳动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婉转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2557800" y="1619280"/>
            <a:ext cx="4926600" cy="25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默读课文边读边用“</a:t>
            </a:r>
            <a:r>
              <a:rPr b="0" lang="zh-CN" sz="6600" spc="-1" strike="noStrike">
                <a:solidFill>
                  <a:srgbClr val="000000"/>
                </a:solidFill>
                <a:latin typeface="Arial"/>
              </a:rPr>
              <a:t>﹏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画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表现列宁喜爱灰雀的句子或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词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13280" y="476280"/>
            <a:ext cx="1415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思考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1403280" y="907920"/>
            <a:ext cx="669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列宁每次走到白桦树下，都要停下来，仰望这三只欢快的灰雀，经常给它们带来面包渣和谷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03280" y="907920"/>
            <a:ext cx="669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列宁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每次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走到白桦树下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都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停下来，仰望这三只欢快的灰雀，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经常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给它们带来面包渣和谷粒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61120" y="765000"/>
            <a:ext cx="59688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天 ，列宁又来到公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园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到白桦树下，发现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胸脯深红的灰雀不见了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他在周围的树林中找遍了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也没有找到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372360" y="4726080"/>
            <a:ext cx="21564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020000" y="4726080"/>
            <a:ext cx="216000" cy="215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6560" y="620640"/>
            <a:ext cx="792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时，列宁看见一个小男孩，就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孩子，你看见过一只深红色胸脯的灰雀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一定是飞走了或者是冻死了。天气严寒，它怕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自言自语地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多好的灰雀呀，可惜再也飞不回来了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会飞回来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619280" y="1125360"/>
            <a:ext cx="5977080" cy="3816360"/>
          </a:xfrm>
          <a:prstGeom prst="cloudCallout">
            <a:avLst>
              <a:gd name="adj1" fmla="val -39939"/>
              <a:gd name="adj2" fmla="val 7940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四处找遍了也不见鸟儿的踪影，这时列宁说的每一句话都包含着什么样的心情呢？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再读，体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6560" y="620640"/>
            <a:ext cx="7921800" cy="365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这时，列宁看见一个小男孩，就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孩子，你看见过一只深红色胸脯的灰雀吗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一定是飞走了或者是冻死了。天气严寒，它怕冷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自言自语地说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多好的灰雀呀，可惜再也飞不回来了。”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列宁问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“会飞回来？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71" dur="1" fill="hold"/>
                                  <p:tgtEl>
                                    <p:spTgt spid="1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1828800" y="1981080"/>
            <a:ext cx="5715000" cy="2667240"/>
          </a:xfrm>
          <a:prstGeom prst="cloudCallout">
            <a:avLst>
              <a:gd name="adj1" fmla="val -24500"/>
              <a:gd name="adj2" fmla="val 8916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聪明的孩子，有谁知道灰雀到底去了哪里了？你从课文哪儿看出来的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4000" y="1197000"/>
            <a:ext cx="821052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没……我没看见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看着列宁，说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“会飞回来的，一定会飞回来的。它还活着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定会飞回来！”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男孩肯定地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rot="10680000">
            <a:off x="1584360" y="4528800"/>
            <a:ext cx="5324400" cy="1781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27280" y="479736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这时候，小男孩在想什么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5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26920" y="1268280"/>
            <a:ext cx="7561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第二天，列宁来到白桦树下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果然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又看到那只灰雀欢蹦乱跳地在枝头歌唱。那个男孩站在白桦树旁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低着头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列宁看看男孩，又看看灰雀，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微笑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着说：“你好！灰雀，昨天你到哪儿去了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然，灰雀没有告诉列宁昨天它去哪儿了。列宁也没再问那个男孩，因为他已经知道男孩是诚实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8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0" y="6172200"/>
            <a:ext cx="9144000" cy="68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2"/>
          <a:srcRect l="7691" t="4639" r="6209" b="14273"/>
          <a:stretch/>
        </p:blipFill>
        <p:spPr>
          <a:xfrm>
            <a:off x="5508720" y="3483000"/>
            <a:ext cx="3635280" cy="337500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179280" y="2349360"/>
            <a:ext cx="7417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男孩一开始就说了谎话，为什么还说他是个诚实的孩子？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 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0920" y="549360"/>
            <a:ext cx="4826160" cy="1295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27280" y="765000"/>
            <a:ext cx="398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最聪明，我知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836640"/>
            <a:ext cx="8785080" cy="46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桦树    胸脯   婉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包渣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诚实      肯定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郊外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或者  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欢蹦乱跳  惹人喜爱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-360" y="-1208160"/>
            <a:ext cx="4267080" cy="8066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列宁（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870-1924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）是全世界无产阶级的革命导师和领袖，马克思主义理论家，俄国共产党和苏维埃社会主义共和国的主要创建人。他出生在俄国伏尔加河边的辛比尔斯克。</a:t>
            </a:r>
            <a:br>
              <a:rPr sz="3600"/>
            </a:b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1924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年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月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日，因脑溢血去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4" descr="liening4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55640" y="1700280"/>
            <a:ext cx="8820000" cy="35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练习分角色朗读课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、收集列宁或其他名人的故事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读一读，开展讲故事比赛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41600" y="404640"/>
            <a:ext cx="26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课下作业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627280" y="2565360"/>
            <a:ext cx="5327640" cy="2325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谢谢！</a:t>
            </a:r>
            <a:endParaRPr b="1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468360" y="1009800"/>
            <a:ext cx="9144000" cy="48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白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桦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树 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胸脯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婉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包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渣</a:t>
            </a: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仰望   谷粒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诚实     肯定    郊外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或者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惹人喜爱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欢蹦乱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-171360"/>
            <a:ext cx="9144000" cy="6858000"/>
            <a:chOff x="0" y="-171360"/>
            <a:chExt cx="9144000" cy="6858000"/>
          </a:xfrm>
        </p:grpSpPr>
        <p:grpSp>
          <p:nvGrpSpPr>
            <p:cNvPr id="48" name="Group 3"/>
            <p:cNvGrpSpPr/>
            <p:nvPr/>
          </p:nvGrpSpPr>
          <p:grpSpPr>
            <a:xfrm>
              <a:off x="0" y="-171360"/>
              <a:ext cx="1292400" cy="6858000"/>
              <a:chOff x="0" y="-171360"/>
              <a:chExt cx="1292400" cy="6858000"/>
            </a:xfrm>
          </p:grpSpPr>
          <p:pic>
            <p:nvPicPr>
              <p:cNvPr id="49" name="Picture 4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-171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" name="Picture 5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819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Picture 6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18097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" name="Picture 7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280044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" name="Picture 8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3791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" name="Picture 9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47815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" name="Picture 10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0" y="5635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6" name="Group 11"/>
            <p:cNvGrpSpPr/>
            <p:nvPr/>
          </p:nvGrpSpPr>
          <p:grpSpPr>
            <a:xfrm>
              <a:off x="7851600" y="-171360"/>
              <a:ext cx="1292400" cy="6858000"/>
              <a:chOff x="7851600" y="-171360"/>
              <a:chExt cx="1292400" cy="6858000"/>
            </a:xfrm>
          </p:grpSpPr>
          <p:pic>
            <p:nvPicPr>
              <p:cNvPr id="57" name="Picture 12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-171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8" name="Picture 13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8193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9" name="Picture 14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18097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0" name="Picture 15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280044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1" name="Picture 16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3791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2" name="Picture 17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478152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63" name="Picture 18" descr="8HANA1"/>
              <p:cNvPicPr/>
              <p:nvPr/>
            </p:nvPicPr>
            <p:blipFill>
              <a:blip r:embed="rId15"/>
              <a:stretch/>
            </p:blipFill>
            <p:spPr>
              <a:xfrm>
                <a:off x="7851600" y="5635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64" name="Picture 19" descr="8HANA1"/>
            <p:cNvPicPr/>
            <p:nvPr/>
          </p:nvPicPr>
          <p:blipFill>
            <a:blip r:embed="rId16"/>
            <a:stretch/>
          </p:blipFill>
          <p:spPr>
            <a:xfrm>
              <a:off x="1219320" y="563580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0" descr="8HANA1"/>
            <p:cNvPicPr/>
            <p:nvPr/>
          </p:nvPicPr>
          <p:blipFill>
            <a:blip r:embed="rId17"/>
            <a:stretch/>
          </p:blipFill>
          <p:spPr>
            <a:xfrm>
              <a:off x="25146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21" descr="8HANA1"/>
            <p:cNvPicPr/>
            <p:nvPr/>
          </p:nvPicPr>
          <p:blipFill>
            <a:blip r:embed="rId18"/>
            <a:stretch/>
          </p:blipFill>
          <p:spPr>
            <a:xfrm>
              <a:off x="3733920" y="563580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22" descr="8HANA1"/>
            <p:cNvPicPr/>
            <p:nvPr/>
          </p:nvPicPr>
          <p:blipFill>
            <a:blip r:embed="rId19"/>
            <a:stretch/>
          </p:blipFill>
          <p:spPr>
            <a:xfrm>
              <a:off x="495288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23" descr="8HANA1"/>
            <p:cNvPicPr/>
            <p:nvPr/>
          </p:nvPicPr>
          <p:blipFill>
            <a:blip r:embed="rId20"/>
            <a:stretch/>
          </p:blipFill>
          <p:spPr>
            <a:xfrm>
              <a:off x="61722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9" name="Picture 24" descr="8HANA1"/>
            <p:cNvPicPr/>
            <p:nvPr/>
          </p:nvPicPr>
          <p:blipFill>
            <a:blip r:embed="rId21"/>
            <a:stretch/>
          </p:blipFill>
          <p:spPr>
            <a:xfrm>
              <a:off x="24382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Picture 25" descr="8HANA1"/>
            <p:cNvPicPr/>
            <p:nvPr/>
          </p:nvPicPr>
          <p:blipFill>
            <a:blip r:embed="rId22"/>
            <a:stretch/>
          </p:blipFill>
          <p:spPr>
            <a:xfrm>
              <a:off x="1219320" y="-1713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26" descr="8HANA1"/>
            <p:cNvPicPr/>
            <p:nvPr/>
          </p:nvPicPr>
          <p:blipFill>
            <a:blip r:embed="rId23"/>
            <a:stretch/>
          </p:blipFill>
          <p:spPr>
            <a:xfrm>
              <a:off x="72388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Picture 27" descr="8HANA1"/>
            <p:cNvPicPr/>
            <p:nvPr/>
          </p:nvPicPr>
          <p:blipFill>
            <a:blip r:embed="rId24"/>
            <a:stretch/>
          </p:blipFill>
          <p:spPr>
            <a:xfrm>
              <a:off x="365760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Picture 28" descr="8HANA1"/>
            <p:cNvPicPr/>
            <p:nvPr/>
          </p:nvPicPr>
          <p:blipFill>
            <a:blip r:embed="rId25"/>
            <a:stretch/>
          </p:blipFill>
          <p:spPr>
            <a:xfrm>
              <a:off x="4876920" y="-1713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Picture 29" descr="8HANA1"/>
            <p:cNvPicPr/>
            <p:nvPr/>
          </p:nvPicPr>
          <p:blipFill>
            <a:blip r:embed="rId26"/>
            <a:stretch/>
          </p:blipFill>
          <p:spPr>
            <a:xfrm>
              <a:off x="6095880" y="-1713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30" descr="8HANA1"/>
            <p:cNvPicPr/>
            <p:nvPr/>
          </p:nvPicPr>
          <p:blipFill>
            <a:blip r:embed="rId27"/>
            <a:stretch/>
          </p:blipFill>
          <p:spPr>
            <a:xfrm>
              <a:off x="7315200" y="563580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6" name="Picture 31" descr="book9"/>
          <p:cNvPicPr/>
          <p:nvPr/>
        </p:nvPicPr>
        <p:blipFill>
          <a:blip r:embed="rId28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2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32000" y="1700280"/>
            <a:ext cx="74991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郊    散    胸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脯    渣    低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敢    惜    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0" name="Group 3"/>
            <p:cNvGrpSpPr/>
            <p:nvPr/>
          </p:nvGrpSpPr>
          <p:grpSpPr>
            <a:xfrm>
              <a:off x="0" y="0"/>
              <a:ext cx="1292400" cy="6858000"/>
              <a:chOff x="0" y="0"/>
              <a:chExt cx="1292400" cy="6858000"/>
            </a:xfrm>
          </p:grpSpPr>
          <p:pic>
            <p:nvPicPr>
              <p:cNvPr id="81" name="Picture 4" descr="8HANA1"/>
              <p:cNvPicPr/>
              <p:nvPr/>
            </p:nvPicPr>
            <p:blipFill>
              <a:blip r:embed="rId2"/>
              <a:stretch/>
            </p:blipFill>
            <p:spPr>
              <a:xfrm>
                <a:off x="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2" name="Picture 5" descr="8HANA1"/>
              <p:cNvPicPr/>
              <p:nvPr/>
            </p:nvPicPr>
            <p:blipFill>
              <a:blip r:embed="rId3"/>
              <a:stretch/>
            </p:blipFill>
            <p:spPr>
              <a:xfrm>
                <a:off x="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3" name="Picture 6" descr="8HANA1"/>
              <p:cNvPicPr/>
              <p:nvPr/>
            </p:nvPicPr>
            <p:blipFill>
              <a:blip r:embed="rId4"/>
              <a:stretch/>
            </p:blipFill>
            <p:spPr>
              <a:xfrm>
                <a:off x="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4" name="Picture 7" descr="8HANA1"/>
              <p:cNvPicPr/>
              <p:nvPr/>
            </p:nvPicPr>
            <p:blipFill>
              <a:blip r:embed="rId5"/>
              <a:stretch/>
            </p:blipFill>
            <p:spPr>
              <a:xfrm>
                <a:off x="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5" name="Picture 8" descr="8HANA1"/>
              <p:cNvPicPr/>
              <p:nvPr/>
            </p:nvPicPr>
            <p:blipFill>
              <a:blip r:embed="rId6"/>
              <a:stretch/>
            </p:blipFill>
            <p:spPr>
              <a:xfrm>
                <a:off x="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6" name="Picture 9" descr="8HANA1"/>
              <p:cNvPicPr/>
              <p:nvPr/>
            </p:nvPicPr>
            <p:blipFill>
              <a:blip r:embed="rId7"/>
              <a:stretch/>
            </p:blipFill>
            <p:spPr>
              <a:xfrm>
                <a:off x="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87" name="Picture 10" descr="8HANA1"/>
              <p:cNvPicPr/>
              <p:nvPr/>
            </p:nvPicPr>
            <p:blipFill>
              <a:blip r:embed="rId8"/>
              <a:stretch/>
            </p:blipFill>
            <p:spPr>
              <a:xfrm>
                <a:off x="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88" name="Group 11"/>
            <p:cNvGrpSpPr/>
            <p:nvPr/>
          </p:nvGrpSpPr>
          <p:grpSpPr>
            <a:xfrm>
              <a:off x="7851600" y="0"/>
              <a:ext cx="1292400" cy="6858000"/>
              <a:chOff x="7851600" y="0"/>
              <a:chExt cx="1292400" cy="6858000"/>
            </a:xfrm>
          </p:grpSpPr>
          <p:pic>
            <p:nvPicPr>
              <p:cNvPr id="89" name="Picture 12" descr="8HANA1"/>
              <p:cNvPicPr/>
              <p:nvPr/>
            </p:nvPicPr>
            <p:blipFill>
              <a:blip r:embed="rId9"/>
              <a:stretch/>
            </p:blipFill>
            <p:spPr>
              <a:xfrm>
                <a:off x="7851600" y="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0" name="Picture 13" descr="8HANA1"/>
              <p:cNvPicPr/>
              <p:nvPr/>
            </p:nvPicPr>
            <p:blipFill>
              <a:blip r:embed="rId10"/>
              <a:stretch/>
            </p:blipFill>
            <p:spPr>
              <a:xfrm>
                <a:off x="7851600" y="9907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1" name="Picture 14" descr="8HANA1"/>
              <p:cNvPicPr/>
              <p:nvPr/>
            </p:nvPicPr>
            <p:blipFill>
              <a:blip r:embed="rId11"/>
              <a:stretch/>
            </p:blipFill>
            <p:spPr>
              <a:xfrm>
                <a:off x="7851600" y="19810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2" name="Picture 15" descr="8HANA1"/>
              <p:cNvPicPr/>
              <p:nvPr/>
            </p:nvPicPr>
            <p:blipFill>
              <a:blip r:embed="rId12"/>
              <a:stretch/>
            </p:blipFill>
            <p:spPr>
              <a:xfrm>
                <a:off x="7851600" y="297180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3" name="Picture 16" descr="8HANA1"/>
              <p:cNvPicPr/>
              <p:nvPr/>
            </p:nvPicPr>
            <p:blipFill>
              <a:blip r:embed="rId13"/>
              <a:stretch/>
            </p:blipFill>
            <p:spPr>
              <a:xfrm>
                <a:off x="7851600" y="396252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4" name="Picture 17" descr="8HANA1"/>
              <p:cNvPicPr/>
              <p:nvPr/>
            </p:nvPicPr>
            <p:blipFill>
              <a:blip r:embed="rId14"/>
              <a:stretch/>
            </p:blipFill>
            <p:spPr>
              <a:xfrm>
                <a:off x="7851600" y="4952880"/>
                <a:ext cx="1292400" cy="10512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95" name="Picture 18" descr="8HANA1"/>
              <p:cNvPicPr/>
              <p:nvPr/>
            </p:nvPicPr>
            <p:blipFill>
              <a:blip r:embed="rId15"/>
              <a:stretch/>
            </p:blipFill>
            <p:spPr>
              <a:xfrm>
                <a:off x="7851600" y="5807160"/>
                <a:ext cx="1292400" cy="1050840"/>
              </a:xfrm>
              <a:prstGeom prst="rect">
                <a:avLst/>
              </a:prstGeom>
              <a:ln w="0">
                <a:noFill/>
              </a:ln>
            </p:spPr>
          </p:pic>
        </p:grpSp>
        <p:pic>
          <p:nvPicPr>
            <p:cNvPr id="96" name="Picture 19" descr="8HANA1"/>
            <p:cNvPicPr/>
            <p:nvPr/>
          </p:nvPicPr>
          <p:blipFill>
            <a:blip r:embed="rId16"/>
            <a:stretch/>
          </p:blipFill>
          <p:spPr>
            <a:xfrm>
              <a:off x="12193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0" descr="8HANA1"/>
            <p:cNvPicPr/>
            <p:nvPr/>
          </p:nvPicPr>
          <p:blipFill>
            <a:blip r:embed="rId17"/>
            <a:stretch/>
          </p:blipFill>
          <p:spPr>
            <a:xfrm>
              <a:off x="25146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1" descr="8HANA1"/>
            <p:cNvPicPr/>
            <p:nvPr/>
          </p:nvPicPr>
          <p:blipFill>
            <a:blip r:embed="rId18"/>
            <a:stretch/>
          </p:blipFill>
          <p:spPr>
            <a:xfrm>
              <a:off x="3733920" y="580716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Picture 22" descr="8HANA1"/>
            <p:cNvPicPr/>
            <p:nvPr/>
          </p:nvPicPr>
          <p:blipFill>
            <a:blip r:embed="rId19"/>
            <a:stretch/>
          </p:blipFill>
          <p:spPr>
            <a:xfrm>
              <a:off x="495288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Picture 23" descr="8HANA1"/>
            <p:cNvPicPr/>
            <p:nvPr/>
          </p:nvPicPr>
          <p:blipFill>
            <a:blip r:embed="rId20"/>
            <a:stretch/>
          </p:blipFill>
          <p:spPr>
            <a:xfrm>
              <a:off x="6172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Picture 24" descr="8HANA1"/>
            <p:cNvPicPr/>
            <p:nvPr/>
          </p:nvPicPr>
          <p:blipFill>
            <a:blip r:embed="rId21"/>
            <a:stretch/>
          </p:blipFill>
          <p:spPr>
            <a:xfrm>
              <a:off x="24382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5" descr="8HANA1"/>
            <p:cNvPicPr/>
            <p:nvPr/>
          </p:nvPicPr>
          <p:blipFill>
            <a:blip r:embed="rId22"/>
            <a:stretch/>
          </p:blipFill>
          <p:spPr>
            <a:xfrm>
              <a:off x="12193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6" descr="8HANA1"/>
            <p:cNvPicPr/>
            <p:nvPr/>
          </p:nvPicPr>
          <p:blipFill>
            <a:blip r:embed="rId23"/>
            <a:stretch/>
          </p:blipFill>
          <p:spPr>
            <a:xfrm>
              <a:off x="7238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7" descr="8HANA1"/>
            <p:cNvPicPr/>
            <p:nvPr/>
          </p:nvPicPr>
          <p:blipFill>
            <a:blip r:embed="rId24"/>
            <a:stretch/>
          </p:blipFill>
          <p:spPr>
            <a:xfrm>
              <a:off x="365760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28" descr="8HANA1"/>
            <p:cNvPicPr/>
            <p:nvPr/>
          </p:nvPicPr>
          <p:blipFill>
            <a:blip r:embed="rId25"/>
            <a:stretch/>
          </p:blipFill>
          <p:spPr>
            <a:xfrm>
              <a:off x="4876920" y="0"/>
              <a:ext cx="129204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Picture 29" descr="8HANA1"/>
            <p:cNvPicPr/>
            <p:nvPr/>
          </p:nvPicPr>
          <p:blipFill>
            <a:blip r:embed="rId26"/>
            <a:stretch/>
          </p:blipFill>
          <p:spPr>
            <a:xfrm>
              <a:off x="6095880" y="0"/>
              <a:ext cx="1292400" cy="105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7" name="Picture 30" descr="8HANA1"/>
            <p:cNvPicPr/>
            <p:nvPr/>
          </p:nvPicPr>
          <p:blipFill>
            <a:blip r:embed="rId27"/>
            <a:stretch/>
          </p:blipFill>
          <p:spPr>
            <a:xfrm>
              <a:off x="7315200" y="5807160"/>
              <a:ext cx="1292400" cy="1050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08" name="Picture 31" descr="book9"/>
          <p:cNvPicPr/>
          <p:nvPr/>
        </p:nvPicPr>
        <p:blipFill>
          <a:blip r:embed="rId28"/>
          <a:stretch/>
        </p:blipFill>
        <p:spPr>
          <a:xfrm>
            <a:off x="685800" y="304920"/>
            <a:ext cx="1523880" cy="126180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2"/>
          <p:cNvSpPr/>
          <p:nvPr/>
        </p:nvSpPr>
        <p:spPr>
          <a:xfrm>
            <a:off x="2058840" y="68580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c00"/>
                </a:solidFill>
                <a:latin typeface="Calibri"/>
                <a:ea typeface="华文琥珀"/>
              </a:rPr>
              <a:t>我会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2057400" y="1295280"/>
          <a:ext cx="4952880" cy="4470480"/>
        </p:xfrm>
        <a:graphic>
          <a:graphicData uri="http://schemas.openxmlformats.org/drawingml/2006/table">
            <a:tbl>
              <a:tblPr/>
              <a:tblGrid>
                <a:gridCol w="2476440"/>
                <a:gridCol w="2476440"/>
              </a:tblGrid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18720">
                      <a:solidFill>
                        <a:srgbClr val="bbe0e3"/>
                      </a:solidFill>
                    </a:lnT>
                    <a:lnB w="5760">
                      <a:solidFill>
                        <a:srgbClr val="bbe0e3"/>
                      </a:solidFill>
                    </a:lnB>
                    <a:noFill/>
                  </a:tcPr>
                </a:tc>
              </a:tr>
              <a:tr h="223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bbe0e3"/>
                      </a:solidFill>
                    </a:lnL>
                    <a:lnR w="576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bbe0e3"/>
                      </a:solidFill>
                    </a:lnL>
                    <a:lnR w="18720">
                      <a:solidFill>
                        <a:srgbClr val="bbe0e3"/>
                      </a:solidFill>
                    </a:lnR>
                    <a:lnT w="5760">
                      <a:solidFill>
                        <a:srgbClr val="bbe0e3"/>
                      </a:solidFill>
                    </a:lnT>
                    <a:lnB w="18720">
                      <a:solidFill>
                        <a:srgbClr val="bbe0e3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4"/>
          <p:cNvSpPr/>
          <p:nvPr/>
        </p:nvSpPr>
        <p:spPr>
          <a:xfrm>
            <a:off x="3373560" y="1292400"/>
            <a:ext cx="24667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0" spc="-1" strike="noStrike">
                <a:solidFill>
                  <a:srgbClr val="000000"/>
                </a:solidFill>
                <a:latin typeface="Calibri"/>
                <a:ea typeface="楷体_GB2312"/>
              </a:rPr>
              <a:t>惜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00000" y="1916280"/>
            <a:ext cx="74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由朗读课文，注意读准字音读通句子，思考：课文讲了一件什么事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3300"/>
                </a:solidFill>
                <a:latin typeface="Arial"/>
                <a:ea typeface="楷体_GB2312"/>
              </a:rPr>
              <a:t>我知道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60960" y="2308320"/>
            <a:ext cx="613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课文讲述的是（      ）、（      ）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（       ）之间的故事 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067280" y="227664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列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957720" y="2276640"/>
            <a:ext cx="851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男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20160" y="3029040"/>
            <a:ext cx="1140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灰雀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rcRect l="102" t="3556" r="0" b="0"/>
          <a:stretch/>
        </p:blipFill>
        <p:spPr>
          <a:xfrm>
            <a:off x="250920" y="0"/>
            <a:ext cx="4105080" cy="4076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219640" y="333360"/>
            <a:ext cx="3313080" cy="34560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2846520" y="4437000"/>
            <a:ext cx="261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轻声读课文第一段用“</a:t>
            </a: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—”画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宋体"/>
                <a:ea typeface="楷体_GB2312"/>
              </a:rPr>
              <a:t>描写灰雀的句子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258920" y="1557360"/>
            <a:ext cx="72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两只胸脯是粉红的，一只胸脯是深红的。它们在树枝间来回跳动，婉转地歌唱，非常惹人喜爱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11:49:08Z</dcterms:created>
  <dc:creator>微软用户</dc:creator>
  <dc:description/>
  <dc:language>en-US</dc:language>
  <cp:lastModifiedBy>Administrator</cp:lastModifiedBy>
  <dcterms:modified xsi:type="dcterms:W3CDTF">2016-06-12T06:40:29Z</dcterms:modified>
  <cp:revision>51</cp:revision>
  <dc:subject/>
  <dc:title>幻灯片 1</dc:title>
</cp:coreProperties>
</file>